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699-0DDE-4108-9477-F9994036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53D-2BB2-4EF9-B74D-F905EBE4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95C57-7938-4D5B-AA55-A602E40F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30331-DEEB-40C5-A951-ED36E5FF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3FEEE-49F0-4172-8BCA-436A3D28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071DC-5DAB-44D6-9919-1DF667DA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42168-C66A-49CC-8BE4-8443290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79BC7-A669-4283-A965-467523D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60017-4079-442B-BB5F-FFF6711E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27948-E2F3-434E-92EB-1461AE2E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842D7-151C-40FB-9F2D-E0E191C5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00213-0C3A-4AF7-89BD-1848D1FA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DCC-2F0C-4441-8329-14610CAC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70493-02A4-449E-A97B-C22DCEF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AC74E-3F99-496F-84C0-3F69E3BC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C7BC9-FF72-4D76-8A27-9B53CEC7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FE637-3FBC-44A7-B1E0-0DC74EFD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56613-0EA5-4E2C-8B7E-7A410AE7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434A9-3211-4DCB-9497-C9BC7A0E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A15F6-3B36-4FFF-A03F-4B4EA0D9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1FA3C-7D7F-4CB2-90DE-93CDD75F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BFFF0-7DCD-4C3B-8551-F55098ED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3E4B4-AF49-40CC-8278-99669E47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2AB-CF6A-46BA-B7EA-CA8F4936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569E4-0E62-459C-B49C-50F54AA5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09353-F6A5-4AE3-B84E-40172270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BC0E5-864C-4710-B885-0D2AB87D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495DA-DEB4-4107-AF32-35B69F87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66DD5-1D98-4A83-9F59-05B1B408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4B4BF-A6F9-4950-9D7F-5ADD145A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4C7A6-BED3-47D6-9413-2A331D9B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8B00F-8794-4C4C-BCB7-9F55A791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56A43-FB92-484A-8AFF-9C11B42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72E33-EFD8-402C-AC42-416206A5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44E8-57C3-4ECE-8964-21357D5C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EF312-C03B-412F-B522-B99C1C69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FE193-D5F9-4747-8B4A-E407001E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5BF39-3145-4A64-A7D4-E31AF6C5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6E0C0-BADE-4354-A83D-D5CD0593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FEE61-B54D-471E-8556-4929B40A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2F08C-A6EB-4FA7-B01D-AFF3ABE0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E63F4-3D3D-4DC6-A231-5473DB43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8CAAB-3987-45E5-BBCD-E25561BA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7EB2D-2A91-4E37-AEC9-5386B1AB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CE3C8-25C4-4972-B8CE-E88BCDE6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3B99-AA28-43C3-93BF-4E681A24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96279-ACBD-4CD1-A8A9-4382C96D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06556-832F-4D7A-A477-B46EC42D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5D9BF-2861-445F-9E3F-B2838BA9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D1B0F-92AB-4821-A014-8EDA89FF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21E22-AC41-42F0-8F1A-BEB47322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E2722-79D4-44B7-8465-F0F2A353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C074C-9093-491F-836E-0FE8986A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B2D40-0C12-4E72-9B31-C4979FFA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EB562-9576-40FB-A65B-C9EC7A34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210EF-3DC7-45B6-9492-B10672CB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6DFD-15C9-40C6-AAC4-6449BE1D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64B3A-F223-4EC0-BE25-89DA2CCB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DF3EF-8F26-490C-B137-2D895968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5AC2F-B29D-40FA-9C64-0EA2CF68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11A92-520E-47E6-8A67-2604223E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C79A8-A29D-44D8-A55A-A59611D2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2BD9D-5A74-4CB1-ABE4-48477CBE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BB05D-8D85-4536-8377-09A640E2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E5DBE-B68C-49BB-BF49-56295F6E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79949-D725-468C-85A1-526B27A3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AAB3C-F4CF-4DE7-80FA-042A0327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F6A7-AD6D-4F50-B49B-D1D27F52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4EB28-4922-4728-8223-64C7FCE2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2B7F9-D5A5-48F7-A3A0-1C7227B8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5AC0C-B488-4E77-B9FB-D0C806BE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6CE0A-B903-404D-99C2-63FC245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AB548-E724-4246-BB05-E4CDDF7D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87CF0-562E-472F-B7E0-0CC38EA5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36FF3-18F7-4838-9E83-BCCC9B9B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0BAB5-59E4-4EC2-A06E-8103EA4C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B4A91-02CF-45B9-A162-FE8FF2E6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A4E84-9F10-49D3-B9E6-20082909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157F-BFA0-495C-B6C9-3A2A1447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36E1A-657F-4443-9B1F-7091D482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C2AD0-8923-4920-9131-62CFFD12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23A316-CA6F-4313-B01B-878398F0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20C8A-3508-4AE1-9446-4D239AE5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EA2A6-22B8-4592-840B-D5410334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0B1A2-D4D8-4E1D-BEEA-2BF4E19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2D6C9-8028-4E70-8C9A-D9FE559F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2D7F9-F623-4BBD-91D7-D463CA24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0A437-6E2F-4814-8132-2410785B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F0F11-1A5F-4455-92D2-CFAAF23B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6DC8-5CAA-4AF8-B2EE-45F49DB3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67460-2F3A-4BCB-8A28-B1C66787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5C457-A578-4C68-91C8-005BAA86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1CADB-7BF2-4C27-8355-4939F66C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1272F-C9B2-4EF2-9C6D-72BB4D4F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93A65-85E0-4B97-BE3E-FA66202D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31E70-E94B-4E74-9D2C-B3BEF3D6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6B2D9-32EA-4F54-A5DB-5BFD1C51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395FD-C43F-4C88-92E7-0D20DDE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99B34A-BBED-42C0-8F4C-6E91BC1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51203-0510-427F-A009-001856B1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1E80-9DC9-43FE-BD9A-05F87C8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57EA3-6B78-4818-9AC9-0C8CCD60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608B06-3EBB-4EFA-89FB-8D06841D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A1171-B407-431D-A58F-35DAC5E5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5AAD9-C306-45FA-A560-7A714812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1B89C-2E83-4AA9-93B4-26ECC9A6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F27C3-DFB4-47C3-ADF5-E939BC22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417F2-40DD-4207-A5F8-A9505D6D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E2969-028C-4DF6-A047-A8637472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C95F6-7644-414A-AC19-1A2D5C37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4E662-4C99-4FC5-96AE-D76B781B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FAF-A1C8-4E15-B1D1-DFB40D59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66C2-A113-4777-BF52-4CAF54AE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EBFCB-F84B-43CC-AE99-C4AEBA1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72492-AE8E-419A-98E9-93031DC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9C00A-69AD-42B8-B86C-4BD2EF1F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E031A4-A911-4947-A12D-E580E2E0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D67B1-5CD0-42D1-9727-8FA82222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6B0C4-6270-4893-9E3F-186926A9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B53AB-16BC-4F5A-9783-2651569B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FC2987-D8DB-4DC3-ABEA-F80D9625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FD7D2-ABFD-4DA5-B1FD-5C24D271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B2E8AE-154B-4566-B383-AB574980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09D7-727E-4302-9F6D-452AD9C1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22354-0A8E-4F05-8ACE-AC6876DE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239A85-DDC9-4A9B-8256-5756F492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0D24D-7005-4749-91D0-A1616B6B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9270D-86B8-4A24-81F0-AFC7318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781538-1772-42C3-BFDC-E93ED31A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D809E-57BE-4705-9D6F-451C4BEB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43A74-106D-4F73-B8E7-0189AFBF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B88794-189D-4387-91EE-7EB19832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BF9B4-E464-468F-A2D4-593714A0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B6B84D-1E86-4F9D-866E-C66BFBC5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06F6-4A1C-421B-9EE7-66C2B45A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27CD3F-5517-4B30-B49E-47B036F9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3E75E9-8F6D-4924-BB95-037E1993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7D0442-6A95-41F2-A0A1-467508E3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01AE2-B712-4045-B47C-0F003118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B3D222-94F3-4073-A6D0-6DFC9381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8EC494-B0D2-4AFB-BF64-3A3F7CB9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4075F-1F1E-443A-BA50-0F11A5C9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A487AF-7EFD-49E5-869A-3AAC521F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B3313-EBC4-44C5-8E27-D9FF13DE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3110-FD83-4F13-B675-18F8BCEC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5D40-7DA9-4C20-A30A-074AC8D3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2192-250D-40F2-881B-51DC4A2B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0AE1-AC2D-4EA9-A309-37CA33D7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CEDD1-69A0-4D81-AF34-332B0239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AC0E-7412-4D1C-A7A2-FDB6E457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0CB88-E374-4BD0-9C28-18B30343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E9E-74A0-42ED-8FD8-239E48D4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A44D-A757-4422-97E7-836B5B43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8E31-438C-4312-BAC2-78D395E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45862-FB74-4BAB-AE9D-C9019D13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E57E-2052-4BB7-8318-6918A224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DC405-DEDF-4CA9-AC34-DA7B9EAC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0F26-16F3-4BD9-BBEC-3742CB24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21E4-901B-44BA-8F55-E7CB1A29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00EE-EF0E-41F4-BC9F-EEA26A1F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ED6D3-2970-45F2-A0A4-8D8810DA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00E5-94BE-42C7-9EEB-BB8F70AD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D38-5B57-42C2-942E-FE048551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191AB-DDAB-4FBE-979D-3DEE8C7C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6384-92E6-4518-907D-8E29577F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EC7B-BF2E-47D7-9582-29B0D6A5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1ECB-7953-485E-89F5-78DB2767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7CDD2-CF4C-4692-A5E2-C44F7218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2587-F6C6-447F-87E5-7828BA04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06D4-D823-4EA6-B20F-405B1537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2911-ADD9-41F3-A81A-5FDE8E71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C10B-BB3C-4548-96D2-47384BCA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F1BDC-8051-4DF1-ACAF-7EFE6058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FBA-7009-40FB-A180-F2369CC1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D3DF6-96A6-48E5-ABEC-B01DDA20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D0595-FD89-4F53-91ED-180111E5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F189-1D57-4C3B-A287-6AB8F3EF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881DA-B036-492A-85E2-4598A875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1BC2A-AE3B-4A9C-A670-53F27FD5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24154-E29A-4AAB-B0D2-4FD9CA49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2D4BB-C478-4A87-AAB3-ACDB3D92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BA717-29DC-4A5A-BEDF-43C5DD24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B09D7-F91C-4953-BDE3-D746DCE1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D948A-834C-402B-91A9-CCBF7AC9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79F-F8EF-4958-8133-DD92D673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6CA93-25E2-4A72-B957-F001FF0C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15B22-8DEB-45EA-82DC-BAE40805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D0D29-D091-43EB-8652-F3ADC1B0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C1A0C-C984-429F-B2D7-AAF0797D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AB80-EC41-4C75-94FB-BB2D3877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9A68D-72C1-4660-92FB-45A89E02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0088A-0919-452F-97EA-6FE96317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767AE-9487-4039-9F84-627DD355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4030-B4B1-48FA-B97E-6C66FB8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E202F-4062-43B4-BBDF-A9968E48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5FF-2509-42D6-8801-649E7DC7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B6002-2346-4730-B167-3C91D413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34A02-9E2B-4899-91E6-00FB1C12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503F0-25E6-413C-B83A-51E0826A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7E32A-931E-4A62-87B6-DB9E0056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0C27E-AEA3-41EC-8C57-BAA6D16E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EDA86-CC12-4C89-A8BE-D3CD07A2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D7041-259A-4A44-9379-6788E520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190C5-74FE-493A-A850-7E96B35B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5794C-15F2-4A0D-BC32-F81C8771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3C4B0-99ED-4390-BC10-DA86C856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6EF-2ECC-4464-BB92-AA938617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89D0B-9044-4EF9-AC10-12EA8CE5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E1D74-AE3B-43A1-B5AD-9A04A37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1F951-F45E-4E8D-9B31-D6C475A7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E0DAB-2F12-46B7-8294-7F7634D8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BD98D-5F07-4DEC-A9EF-22018D67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CF088-B5F0-4626-A4B9-611F8244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CFC21-CCA5-463F-BBEB-49EB2502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6EF76-CDF7-408A-959F-8D67B52E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A548C-CFA3-4A3A-A404-504617F2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5D81-95A0-4D20-AEAF-603A5F74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9D4-2DEA-4DD0-96A5-3555DBEC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CFAB2-CF96-4F50-97CB-F158219D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70F7F-7E55-4BC0-AB0F-4488A005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84187-3F90-4040-9D45-6B032D91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14B44-3724-4BBC-86AC-0E2E5727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CCDA8-5A41-4DAB-9D9E-F43FF5F0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E5EB6-B29D-4462-ACBD-99567F33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57584-1F5A-44F9-859B-C594EE2B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3552C-E3E8-4885-8753-D6FDBF55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49CD2-04ED-4B4C-9CE3-5D0EC9DB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4FE8A-33A0-4F17-B06D-38C81C72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7F8D-4940-4EBF-BA20-0A9A7C0A212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0F31-88A4-4DD1-9DBB-D966982BA9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0404-9AE5-43EB-AF7C-84D4692A294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A2A-20B9-4777-821A-83FC7C040B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33AA-33C6-442D-A454-3B2D38FF504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80EA-CE58-46A3-92D0-D5BA6A172C9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1C81-3CF8-4121-9659-12C79B4A977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5A22-F50B-46A9-B6EC-F59BBF38CC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231F-F330-4DEB-90BB-0B6193D0371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5AD9-3225-4193-BDA9-7C24F09D3AC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859A-0F40-4E30-B898-1BF4B0F755B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B944-87B5-4487-9333-C667791862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0B0B-121B-4F52-81CE-C745F1D608E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2194-CA91-4D93-96A4-36BFCA23AE2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DD02-6BF2-4807-8C47-BF2EC2D15A8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A43F-4114-407C-912D-C87EEBFD78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9A25-DEE0-4B19-96C2-E4974EFE895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AFA8-CC92-4D21-BBD6-50A6B8ED01B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D7A3-E269-4C9C-9089-2FC4C0CBE09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2270-9808-4B2C-8C95-6BF61DB39D7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F650-C2EF-45FB-8DA6-096B8253793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9B62-1BA6-41F4-B095-0E42AD38D1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26DB-9200-4D37-8363-593155CDE46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30BE-FEE1-4A81-BF83-CC5C43CE47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7F06-3195-45AC-8E1F-2678FE1D2CA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551B-8E30-43C2-B692-5E2D76FD2C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851B-FC37-4CA3-AC5D-F532E0043F1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9958-74C4-40DF-B6F2-6B77DEFE5F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677E-2125-4597-8262-5AB98EC1A11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03D5-02F7-4224-9A09-968E6FAAF07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8285-A994-4D9D-8069-5B9C83D481A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2BBB-270E-4C35-8B5D-0219CC0DE8B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75F8-9EE6-496E-9C74-C69166180C2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CF9D-4F80-4DDB-A71F-DE1E04E358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851F-F789-4452-B605-591BDF3E0CC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0103-257F-4F0E-8E1D-21EAC7280B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71B6-2DAF-4C35-AF61-966DABBF0C0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3FEC-2D09-4C7A-B12B-D8BC8836D7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Rectángulo"/>
          <p:cNvSpPr/>
          <p:nvPr/>
        </p:nvSpPr>
        <p:spPr>
          <a:xfrm>
            <a:off x="611280" y="549360"/>
            <a:ext cx="79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Transporte de líp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egradación de Ácidos Gras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Cuerpos cetón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Biosíntesis de Ácidos Gr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207C-B3B2-40AD-B594-D8A628CE141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91640" y="60912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Etapas de la Síntesis de Ac. Gra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871280" y="2384280"/>
            <a:ext cx="66438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re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ormación de malon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acciones catalizadas por el complejo multienzimático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Ácido graso sint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BD15-18B0-48B8-ACAD-A25B66948F3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83800" y="215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 Formación de malonil-Co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317080" cy="24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carboxilación que requiere 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fuente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: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usa biotina (Vit B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como coenz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 el principal sitio de regulación de la síntesis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9" name="Object 4"/>
          <p:cNvGraphicFramePr/>
          <p:nvPr/>
        </p:nvGraphicFramePr>
        <p:xfrm>
          <a:off x="431640" y="4365720"/>
          <a:ext cx="828216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65720"/>
                    <a:ext cx="82821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ángulo 15"/>
          <p:cNvSpPr/>
          <p:nvPr/>
        </p:nvSpPr>
        <p:spPr>
          <a:xfrm rot="5400000">
            <a:off x="3201120" y="3319920"/>
            <a:ext cx="64764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Cuadro de texto 17"/>
          <p:cNvSpPr/>
          <p:nvPr/>
        </p:nvSpPr>
        <p:spPr>
          <a:xfrm>
            <a:off x="687240" y="1197000"/>
            <a:ext cx="7704360" cy="2684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Proteína transportadora de bio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Biotin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-Trans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- Enzima 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Cuadro de texto 23"/>
          <p:cNvSpPr/>
          <p:nvPr/>
        </p:nvSpPr>
        <p:spPr>
          <a:xfrm>
            <a:off x="1744560" y="333360"/>
            <a:ext cx="576108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cetil-CoA Carboxil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ángulo 24"/>
          <p:cNvSpPr/>
          <p:nvPr/>
        </p:nvSpPr>
        <p:spPr>
          <a:xfrm>
            <a:off x="687240" y="4351320"/>
            <a:ext cx="759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Biotina: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 Grupo prostétic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acetil-CoA Carboxil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1 CuadroTexto"/>
          <p:cNvSpPr/>
          <p:nvPr/>
        </p:nvSpPr>
        <p:spPr>
          <a:xfrm>
            <a:off x="1752840" y="5732640"/>
            <a:ext cx="63284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TAMBIEN TIENE REGULACIÓN HORMONAL Y DI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ángulo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ACETIL-CoA CARBOXILASA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Cuadro de texto 5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Cuadro de texto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Cuadro de texto 7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Cuadro de texto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Cuadro de texto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Imagen 11"/>
          <p:cNvSpPr/>
          <p:nvPr/>
        </p:nvSpPr>
        <p:spPr>
          <a:xfrm>
            <a:off x="250920" y="2565360"/>
            <a:ext cx="2011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ínea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Cuadro de texto 13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TP      ADP + P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Autoforma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Cuadro de texto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Grupo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898" name="Imagen 17" descr="MALONCOA"/>
            <p:cNvPicPr/>
            <p:nvPr/>
          </p:nvPicPr>
          <p:blipFill>
            <a:blip r:embed="rId1"/>
            <a:srcRect l="0" t="0" r="17937" b="18488"/>
            <a:stretch/>
          </p:blipFill>
          <p:spPr>
            <a:xfrm>
              <a:off x="5292720" y="2276640"/>
              <a:ext cx="31669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Cuadro de texto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Cuadro de texto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Cuadro de texto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Autoforma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26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Cuadro de texto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í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Línea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Elipse 30"/>
          <p:cNvSpPr/>
          <p:nvPr/>
        </p:nvSpPr>
        <p:spPr>
          <a:xfrm>
            <a:off x="4896000" y="4653000"/>
            <a:ext cx="1188720" cy="576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itrato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Elipse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Elipse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Línea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Elipse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G de cade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Larga (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76F9-184B-4E15-8128-CD8A3AAEEC7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72600" y="1789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 Reacciones de la acido graso sintas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439040" cy="49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 la síntesis de AG de hasta 16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a por 2 subunidades idénticas con orientación opuesta, cada una con 3 domin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1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greso de sustratos y unidad de condensa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Acetil transferasa (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lonil transferasa (M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ff"/>
                </a:solidFill>
                <a:latin typeface="Arial"/>
              </a:rPr>
              <a:t>Enzima condensante (KS) o Cetoacil sintasa con resto de Cisteí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unidad de reduc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Cetoacil reductasa (K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idroxiacil deshidratasa (H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oil reductasa (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ee la proteína transportadora de acilos AC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liberación de AG. Posee la enzi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Tioesterasa o Deacilas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5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154080" y="3130560"/>
            <a:ext cx="2300040" cy="2162160"/>
          </a:xfrm>
          <a:prstGeom prst="rect">
            <a:avLst/>
          </a:prstGeom>
          <a:ln w="0">
            <a:noFill/>
          </a:ln>
        </p:spPr>
      </p:pic>
      <p:sp>
        <p:nvSpPr>
          <p:cNvPr id="916" name="6 CuadroTexto"/>
          <p:cNvSpPr/>
          <p:nvPr/>
        </p:nvSpPr>
        <p:spPr>
          <a:xfrm>
            <a:off x="191160" y="532764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Una subunidad de Aci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Graso Sinteta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orma libre 137"/>
          <p:cNvSpPr/>
          <p:nvPr/>
        </p:nvSpPr>
        <p:spPr>
          <a:xfrm>
            <a:off x="4525920" y="4741920"/>
            <a:ext cx="4187880" cy="1631880"/>
          </a:xfrm>
          <a:custGeom>
            <a:avLst/>
            <a:gdLst/>
            <a:ahLst/>
            <a:rect l="l" t="t" r="r" b="b"/>
            <a:pathLst>
              <a:path w="2638" h="1028">
                <a:moveTo>
                  <a:pt x="269" y="469"/>
                </a:moveTo>
                <a:cubicBezTo>
                  <a:pt x="197" y="525"/>
                  <a:pt x="0" y="667"/>
                  <a:pt x="29" y="757"/>
                </a:cubicBezTo>
                <a:cubicBezTo>
                  <a:pt x="58" y="847"/>
                  <a:pt x="278" y="996"/>
                  <a:pt x="446" y="1012"/>
                </a:cubicBezTo>
                <a:cubicBezTo>
                  <a:pt x="614" y="1028"/>
                  <a:pt x="934" y="909"/>
                  <a:pt x="1037" y="853"/>
                </a:cubicBezTo>
                <a:cubicBezTo>
                  <a:pt x="1140" y="797"/>
                  <a:pt x="1000" y="686"/>
                  <a:pt x="1064" y="678"/>
                </a:cubicBezTo>
                <a:cubicBezTo>
                  <a:pt x="1128" y="670"/>
                  <a:pt x="1269" y="804"/>
                  <a:pt x="1421" y="805"/>
                </a:cubicBezTo>
                <a:cubicBezTo>
                  <a:pt x="1573" y="806"/>
                  <a:pt x="1894" y="750"/>
                  <a:pt x="1974" y="686"/>
                </a:cubicBezTo>
                <a:cubicBezTo>
                  <a:pt x="2054" y="622"/>
                  <a:pt x="1809" y="457"/>
                  <a:pt x="1901" y="421"/>
                </a:cubicBezTo>
                <a:cubicBezTo>
                  <a:pt x="1993" y="385"/>
                  <a:pt x="2421" y="528"/>
                  <a:pt x="2525" y="469"/>
                </a:cubicBezTo>
                <a:cubicBezTo>
                  <a:pt x="2629" y="410"/>
                  <a:pt x="2638" y="136"/>
                  <a:pt x="2525" y="68"/>
                </a:cubicBezTo>
                <a:cubicBezTo>
                  <a:pt x="2412" y="0"/>
                  <a:pt x="1969" y="9"/>
                  <a:pt x="1849" y="60"/>
                </a:cubicBezTo>
                <a:cubicBezTo>
                  <a:pt x="1729" y="111"/>
                  <a:pt x="1852" y="329"/>
                  <a:pt x="1805" y="373"/>
                </a:cubicBezTo>
                <a:cubicBezTo>
                  <a:pt x="1758" y="417"/>
                  <a:pt x="1669" y="333"/>
                  <a:pt x="1565" y="325"/>
                </a:cubicBezTo>
                <a:cubicBezTo>
                  <a:pt x="1461" y="317"/>
                  <a:pt x="1276" y="287"/>
                  <a:pt x="1181" y="325"/>
                </a:cubicBezTo>
                <a:cubicBezTo>
                  <a:pt x="1086" y="363"/>
                  <a:pt x="1061" y="531"/>
                  <a:pt x="997" y="552"/>
                </a:cubicBezTo>
                <a:cubicBezTo>
                  <a:pt x="933" y="573"/>
                  <a:pt x="886" y="474"/>
                  <a:pt x="797" y="452"/>
                </a:cubicBezTo>
                <a:cubicBezTo>
                  <a:pt x="708" y="430"/>
                  <a:pt x="549" y="418"/>
                  <a:pt x="461" y="421"/>
                </a:cubicBezTo>
                <a:cubicBezTo>
                  <a:pt x="373" y="424"/>
                  <a:pt x="341" y="413"/>
                  <a:pt x="269" y="469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orma libre 136"/>
          <p:cNvSpPr/>
          <p:nvPr/>
        </p:nvSpPr>
        <p:spPr>
          <a:xfrm>
            <a:off x="-11160" y="4925880"/>
            <a:ext cx="4233960" cy="1703520"/>
          </a:xfrm>
          <a:custGeom>
            <a:avLst/>
            <a:gdLst/>
            <a:ahLst/>
            <a:rect l="l" t="t" r="r" b="b"/>
            <a:pathLst>
              <a:path w="2667" h="1073">
                <a:moveTo>
                  <a:pt x="274" y="161"/>
                </a:moveTo>
                <a:cubicBezTo>
                  <a:pt x="199" y="221"/>
                  <a:pt x="48" y="318"/>
                  <a:pt x="24" y="445"/>
                </a:cubicBezTo>
                <a:cubicBezTo>
                  <a:pt x="0" y="572"/>
                  <a:pt x="54" y="936"/>
                  <a:pt x="132" y="921"/>
                </a:cubicBezTo>
                <a:cubicBezTo>
                  <a:pt x="210" y="906"/>
                  <a:pt x="410" y="354"/>
                  <a:pt x="491" y="353"/>
                </a:cubicBezTo>
                <a:cubicBezTo>
                  <a:pt x="572" y="352"/>
                  <a:pt x="489" y="797"/>
                  <a:pt x="619" y="914"/>
                </a:cubicBezTo>
                <a:cubicBezTo>
                  <a:pt x="749" y="1031"/>
                  <a:pt x="1148" y="1070"/>
                  <a:pt x="1268" y="1054"/>
                </a:cubicBezTo>
                <a:cubicBezTo>
                  <a:pt x="1388" y="1038"/>
                  <a:pt x="1299" y="819"/>
                  <a:pt x="1339" y="818"/>
                </a:cubicBezTo>
                <a:cubicBezTo>
                  <a:pt x="1379" y="817"/>
                  <a:pt x="1372" y="1023"/>
                  <a:pt x="1506" y="1048"/>
                </a:cubicBezTo>
                <a:cubicBezTo>
                  <a:pt x="1640" y="1073"/>
                  <a:pt x="2068" y="1025"/>
                  <a:pt x="2144" y="971"/>
                </a:cubicBezTo>
                <a:cubicBezTo>
                  <a:pt x="2220" y="917"/>
                  <a:pt x="1894" y="750"/>
                  <a:pt x="1963" y="722"/>
                </a:cubicBezTo>
                <a:cubicBezTo>
                  <a:pt x="2032" y="694"/>
                  <a:pt x="2455" y="828"/>
                  <a:pt x="2561" y="804"/>
                </a:cubicBezTo>
                <a:cubicBezTo>
                  <a:pt x="2667" y="780"/>
                  <a:pt x="2644" y="650"/>
                  <a:pt x="2600" y="580"/>
                </a:cubicBezTo>
                <a:cubicBezTo>
                  <a:pt x="2556" y="510"/>
                  <a:pt x="2404" y="408"/>
                  <a:pt x="2299" y="386"/>
                </a:cubicBezTo>
                <a:cubicBezTo>
                  <a:pt x="2194" y="364"/>
                  <a:pt x="2055" y="413"/>
                  <a:pt x="1969" y="445"/>
                </a:cubicBezTo>
                <a:cubicBezTo>
                  <a:pt x="1883" y="477"/>
                  <a:pt x="1887" y="531"/>
                  <a:pt x="1785" y="578"/>
                </a:cubicBezTo>
                <a:cubicBezTo>
                  <a:pt x="1683" y="625"/>
                  <a:pt x="1451" y="731"/>
                  <a:pt x="1359" y="729"/>
                </a:cubicBezTo>
                <a:cubicBezTo>
                  <a:pt x="1267" y="727"/>
                  <a:pt x="1307" y="595"/>
                  <a:pt x="1230" y="563"/>
                </a:cubicBezTo>
                <a:cubicBezTo>
                  <a:pt x="1153" y="531"/>
                  <a:pt x="967" y="552"/>
                  <a:pt x="897" y="538"/>
                </a:cubicBezTo>
                <a:cubicBezTo>
                  <a:pt x="827" y="524"/>
                  <a:pt x="801" y="515"/>
                  <a:pt x="811" y="482"/>
                </a:cubicBezTo>
                <a:cubicBezTo>
                  <a:pt x="821" y="449"/>
                  <a:pt x="939" y="402"/>
                  <a:pt x="955" y="338"/>
                </a:cubicBezTo>
                <a:cubicBezTo>
                  <a:pt x="971" y="274"/>
                  <a:pt x="963" y="154"/>
                  <a:pt x="907" y="98"/>
                </a:cubicBezTo>
                <a:cubicBezTo>
                  <a:pt x="851" y="42"/>
                  <a:pt x="691" y="4"/>
                  <a:pt x="619" y="2"/>
                </a:cubicBezTo>
                <a:cubicBezTo>
                  <a:pt x="547" y="0"/>
                  <a:pt x="531" y="60"/>
                  <a:pt x="474" y="86"/>
                </a:cubicBezTo>
                <a:cubicBezTo>
                  <a:pt x="417" y="112"/>
                  <a:pt x="316" y="146"/>
                  <a:pt x="274" y="161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Cuadro de texto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Elipse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orma libre 117"/>
          <p:cNvSpPr/>
          <p:nvPr/>
        </p:nvSpPr>
        <p:spPr>
          <a:xfrm>
            <a:off x="4325760" y="1244520"/>
            <a:ext cx="4818240" cy="1766880"/>
          </a:xfrm>
          <a:custGeom>
            <a:avLst/>
            <a:gdLst/>
            <a:ahLst/>
            <a:rect l="l" t="t" r="r" b="b"/>
            <a:pathLst>
              <a:path w="3035" h="1113">
                <a:moveTo>
                  <a:pt x="97" y="51"/>
                </a:moveTo>
                <a:cubicBezTo>
                  <a:pt x="0" y="102"/>
                  <a:pt x="0" y="304"/>
                  <a:pt x="72" y="368"/>
                </a:cubicBezTo>
                <a:cubicBezTo>
                  <a:pt x="144" y="432"/>
                  <a:pt x="429" y="379"/>
                  <a:pt x="531" y="435"/>
                </a:cubicBezTo>
                <a:cubicBezTo>
                  <a:pt x="633" y="491"/>
                  <a:pt x="575" y="653"/>
                  <a:pt x="681" y="702"/>
                </a:cubicBezTo>
                <a:cubicBezTo>
                  <a:pt x="787" y="751"/>
                  <a:pt x="1089" y="668"/>
                  <a:pt x="1165" y="727"/>
                </a:cubicBezTo>
                <a:cubicBezTo>
                  <a:pt x="1241" y="786"/>
                  <a:pt x="1020" y="993"/>
                  <a:pt x="1140" y="1053"/>
                </a:cubicBezTo>
                <a:cubicBezTo>
                  <a:pt x="1260" y="1113"/>
                  <a:pt x="1744" y="1105"/>
                  <a:pt x="1883" y="1088"/>
                </a:cubicBezTo>
                <a:cubicBezTo>
                  <a:pt x="2022" y="1071"/>
                  <a:pt x="1887" y="968"/>
                  <a:pt x="1975" y="952"/>
                </a:cubicBezTo>
                <a:cubicBezTo>
                  <a:pt x="2063" y="936"/>
                  <a:pt x="2332" y="1002"/>
                  <a:pt x="2411" y="992"/>
                </a:cubicBezTo>
                <a:cubicBezTo>
                  <a:pt x="2490" y="982"/>
                  <a:pt x="2446" y="923"/>
                  <a:pt x="2451" y="894"/>
                </a:cubicBezTo>
                <a:cubicBezTo>
                  <a:pt x="2456" y="865"/>
                  <a:pt x="2385" y="835"/>
                  <a:pt x="2442" y="819"/>
                </a:cubicBezTo>
                <a:cubicBezTo>
                  <a:pt x="2499" y="803"/>
                  <a:pt x="2699" y="821"/>
                  <a:pt x="2795" y="800"/>
                </a:cubicBezTo>
                <a:cubicBezTo>
                  <a:pt x="2891" y="779"/>
                  <a:pt x="3035" y="751"/>
                  <a:pt x="3018" y="694"/>
                </a:cubicBezTo>
                <a:cubicBezTo>
                  <a:pt x="3001" y="637"/>
                  <a:pt x="2769" y="505"/>
                  <a:pt x="2693" y="460"/>
                </a:cubicBezTo>
                <a:cubicBezTo>
                  <a:pt x="2617" y="415"/>
                  <a:pt x="2616" y="429"/>
                  <a:pt x="2559" y="426"/>
                </a:cubicBezTo>
                <a:cubicBezTo>
                  <a:pt x="2502" y="423"/>
                  <a:pt x="2407" y="417"/>
                  <a:pt x="2350" y="443"/>
                </a:cubicBezTo>
                <a:cubicBezTo>
                  <a:pt x="2293" y="469"/>
                  <a:pt x="2242" y="541"/>
                  <a:pt x="2217" y="585"/>
                </a:cubicBezTo>
                <a:cubicBezTo>
                  <a:pt x="2192" y="629"/>
                  <a:pt x="2242" y="670"/>
                  <a:pt x="2200" y="710"/>
                </a:cubicBezTo>
                <a:cubicBezTo>
                  <a:pt x="2158" y="750"/>
                  <a:pt x="2034" y="820"/>
                  <a:pt x="1966" y="827"/>
                </a:cubicBezTo>
                <a:cubicBezTo>
                  <a:pt x="1898" y="834"/>
                  <a:pt x="1859" y="773"/>
                  <a:pt x="1791" y="752"/>
                </a:cubicBezTo>
                <a:cubicBezTo>
                  <a:pt x="1723" y="731"/>
                  <a:pt x="1614" y="726"/>
                  <a:pt x="1557" y="702"/>
                </a:cubicBezTo>
                <a:cubicBezTo>
                  <a:pt x="1500" y="678"/>
                  <a:pt x="1487" y="661"/>
                  <a:pt x="1451" y="608"/>
                </a:cubicBezTo>
                <a:cubicBezTo>
                  <a:pt x="1415" y="555"/>
                  <a:pt x="1403" y="436"/>
                  <a:pt x="1340" y="385"/>
                </a:cubicBezTo>
                <a:cubicBezTo>
                  <a:pt x="1277" y="334"/>
                  <a:pt x="1158" y="320"/>
                  <a:pt x="1073" y="301"/>
                </a:cubicBezTo>
                <a:cubicBezTo>
                  <a:pt x="988" y="282"/>
                  <a:pt x="897" y="312"/>
                  <a:pt x="827" y="272"/>
                </a:cubicBezTo>
                <a:cubicBezTo>
                  <a:pt x="757" y="232"/>
                  <a:pt x="778" y="96"/>
                  <a:pt x="656" y="59"/>
                </a:cubicBezTo>
                <a:cubicBezTo>
                  <a:pt x="534" y="22"/>
                  <a:pt x="194" y="0"/>
                  <a:pt x="97" y="5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Forma libre 58"/>
          <p:cNvSpPr/>
          <p:nvPr/>
        </p:nvSpPr>
        <p:spPr>
          <a:xfrm>
            <a:off x="585720" y="1424160"/>
            <a:ext cx="3611520" cy="1671480"/>
          </a:xfrm>
          <a:custGeom>
            <a:avLst/>
            <a:gdLst/>
            <a:ahLst/>
            <a:rect l="l" t="t" r="r" b="b"/>
            <a:pathLst>
              <a:path w="2275" h="1053">
                <a:moveTo>
                  <a:pt x="104" y="989"/>
                </a:moveTo>
                <a:cubicBezTo>
                  <a:pt x="208" y="1053"/>
                  <a:pt x="575" y="999"/>
                  <a:pt x="680" y="941"/>
                </a:cubicBezTo>
                <a:cubicBezTo>
                  <a:pt x="785" y="883"/>
                  <a:pt x="731" y="707"/>
                  <a:pt x="735" y="639"/>
                </a:cubicBezTo>
                <a:cubicBezTo>
                  <a:pt x="739" y="571"/>
                  <a:pt x="666" y="549"/>
                  <a:pt x="704" y="531"/>
                </a:cubicBezTo>
                <a:cubicBezTo>
                  <a:pt x="742" y="513"/>
                  <a:pt x="852" y="545"/>
                  <a:pt x="964" y="531"/>
                </a:cubicBezTo>
                <a:cubicBezTo>
                  <a:pt x="1076" y="517"/>
                  <a:pt x="1292" y="448"/>
                  <a:pt x="1375" y="444"/>
                </a:cubicBezTo>
                <a:cubicBezTo>
                  <a:pt x="1458" y="440"/>
                  <a:pt x="1448" y="497"/>
                  <a:pt x="1462" y="507"/>
                </a:cubicBezTo>
                <a:cubicBezTo>
                  <a:pt x="1476" y="517"/>
                  <a:pt x="1442" y="506"/>
                  <a:pt x="1462" y="507"/>
                </a:cubicBezTo>
                <a:cubicBezTo>
                  <a:pt x="1482" y="508"/>
                  <a:pt x="1461" y="509"/>
                  <a:pt x="1580" y="515"/>
                </a:cubicBezTo>
                <a:cubicBezTo>
                  <a:pt x="1699" y="521"/>
                  <a:pt x="2075" y="607"/>
                  <a:pt x="2175" y="543"/>
                </a:cubicBezTo>
                <a:cubicBezTo>
                  <a:pt x="2275" y="479"/>
                  <a:pt x="2238" y="206"/>
                  <a:pt x="2180" y="129"/>
                </a:cubicBezTo>
                <a:cubicBezTo>
                  <a:pt x="2122" y="52"/>
                  <a:pt x="1938" y="71"/>
                  <a:pt x="1825" y="81"/>
                </a:cubicBezTo>
                <a:cubicBezTo>
                  <a:pt x="1712" y="91"/>
                  <a:pt x="1584" y="189"/>
                  <a:pt x="1501" y="192"/>
                </a:cubicBezTo>
                <a:cubicBezTo>
                  <a:pt x="1418" y="195"/>
                  <a:pt x="1481" y="119"/>
                  <a:pt x="1327" y="97"/>
                </a:cubicBezTo>
                <a:cubicBezTo>
                  <a:pt x="1173" y="75"/>
                  <a:pt x="725" y="0"/>
                  <a:pt x="578" y="58"/>
                </a:cubicBezTo>
                <a:cubicBezTo>
                  <a:pt x="431" y="116"/>
                  <a:pt x="534" y="364"/>
                  <a:pt x="447" y="447"/>
                </a:cubicBezTo>
                <a:cubicBezTo>
                  <a:pt x="360" y="530"/>
                  <a:pt x="114" y="465"/>
                  <a:pt x="57" y="555"/>
                </a:cubicBezTo>
                <a:cubicBezTo>
                  <a:pt x="0" y="645"/>
                  <a:pt x="0" y="925"/>
                  <a:pt x="104" y="989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Elipse 55"/>
          <p:cNvSpPr/>
          <p:nvPr/>
        </p:nvSpPr>
        <p:spPr>
          <a:xfrm>
            <a:off x="3344760" y="4808520"/>
            <a:ext cx="24512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Cuadro de texto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Línea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430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Esquema Complejo ácido graso sintas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8" name="Cuadro de texto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Cuadro de texto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Cuadro de texto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ángulo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ángulo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Cuadro de texto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ángulo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Cuadro de texto 72"/>
          <p:cNvSpPr/>
          <p:nvPr/>
        </p:nvSpPr>
        <p:spPr>
          <a:xfrm>
            <a:off x="7505640" y="241632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Cuadro de texto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Cuadro de texto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Cuadro de texto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Cuadro de texto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Cuadro de texto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Cuadro de texto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Cuadro de texto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Cuadro de texto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Cuadro de texto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Cuadro de texto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Cuadro de texto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Cuadro de texto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ángulo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ángulo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Cuadro de texto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Cuadro de texto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Cuadro de texto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ángulo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Cuadro de texto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Cuadro de texto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Cuadro de texto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Cuadro de texto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Forma libre 138"/>
          <p:cNvSpPr/>
          <p:nvPr/>
        </p:nvSpPr>
        <p:spPr>
          <a:xfrm>
            <a:off x="4191120" y="59436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4" y="24"/>
                  <a:pt x="8" y="48"/>
                  <a:pt x="48" y="48"/>
                </a:cubicBezTo>
                <a:cubicBezTo>
                  <a:pt x="88" y="48"/>
                  <a:pt x="208" y="8"/>
                  <a:pt x="240" y="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Forma libre 139"/>
          <p:cNvSpPr/>
          <p:nvPr/>
        </p:nvSpPr>
        <p:spPr>
          <a:xfrm>
            <a:off x="4114800" y="1587600"/>
            <a:ext cx="30492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104"/>
                </a:moveTo>
                <a:cubicBezTo>
                  <a:pt x="8" y="60"/>
                  <a:pt x="16" y="16"/>
                  <a:pt x="48" y="8"/>
                </a:cubicBezTo>
                <a:cubicBezTo>
                  <a:pt x="80" y="0"/>
                  <a:pt x="168" y="48"/>
                  <a:pt x="192" y="56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DECB-FC99-42A1-9F87-62E642E304C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09680" y="252000"/>
            <a:ext cx="84470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Transferencia de acetato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3" name="Text Box 11"/>
          <p:cNvSpPr/>
          <p:nvPr/>
        </p:nvSpPr>
        <p:spPr>
          <a:xfrm>
            <a:off x="395280" y="166536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14"/>
          <p:cNvSpPr/>
          <p:nvPr/>
        </p:nvSpPr>
        <p:spPr>
          <a:xfrm>
            <a:off x="324000" y="2384280"/>
            <a:ext cx="40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Una molécula de acetil-CoA ingresa y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</a:rPr>
              <a:t>acetil transferasa (A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 transfiere el resto acetilo al sitio activo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</a:rPr>
              <a:t>enzima condensante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</a:rPr>
              <a:t>(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Picture 16" descr=""/>
          <p:cNvPicPr/>
          <p:nvPr/>
        </p:nvPicPr>
        <p:blipFill>
          <a:blip r:embed="rId1"/>
          <a:stretch/>
        </p:blipFill>
        <p:spPr>
          <a:xfrm>
            <a:off x="4680000" y="981000"/>
            <a:ext cx="3544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857C-FF72-44AE-B25D-6F1483CB0EB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58560" y="333360"/>
            <a:ext cx="8483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Transferencia de malonilo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8" name="Text Box 6"/>
          <p:cNvSpPr/>
          <p:nvPr/>
        </p:nvSpPr>
        <p:spPr>
          <a:xfrm>
            <a:off x="431640" y="1628640"/>
            <a:ext cx="32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El malonil-CoA formado ingresa y se une al residuo de </a:t>
            </a:r>
            <a:r>
              <a:rPr b="0" lang="es-ES" sz="2800" spc="-1" strike="noStrike">
                <a:solidFill>
                  <a:srgbClr val="00ff00"/>
                </a:solidFill>
                <a:latin typeface="Arial Narrow"/>
              </a:rPr>
              <a:t>Fosfopanteteína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 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</a:rPr>
              <a:t>Proteína Transportadora de Acilos (ACP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 por acción de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</a:rPr>
              <a:t>malonil transferasa (M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Picture 8" descr=""/>
          <p:cNvPicPr/>
          <p:nvPr/>
        </p:nvPicPr>
        <p:blipFill>
          <a:blip r:embed="rId1"/>
          <a:stretch/>
        </p:blipFill>
        <p:spPr>
          <a:xfrm>
            <a:off x="3738600" y="944640"/>
            <a:ext cx="47019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5554-7DB2-44FA-9291-29C1765A520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-360" y="25200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3)Condensación de acetilo con malonil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2" name="Text Box 6"/>
          <p:cNvSpPr/>
          <p:nvPr/>
        </p:nvSpPr>
        <p:spPr>
          <a:xfrm>
            <a:off x="468360" y="2097000"/>
            <a:ext cx="39211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El carboxilo libre del malonilo se separa como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Se produce la unión de acetilo y malonilo catalizada por la </a:t>
            </a:r>
            <a:r>
              <a:rPr b="0" lang="es-ES" sz="2400" spc="-1" strike="noStrike">
                <a:solidFill>
                  <a:srgbClr val="ff3300"/>
                </a:solidFill>
                <a:latin typeface="Arial Narrow"/>
              </a:rPr>
              <a:t>enzima condensante (KS) 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para formar ceto-acil A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Se libera el acetilo de la enzima conden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3" name="Picture 8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81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5346-8D7C-400E-897A-9C8F435C646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4) Primera reducción (reducción del grupo ceto)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468360" y="2529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El ceto-acil ACP formado se reduce a hidroxi-acil ACP por acción de la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</a:rPr>
              <a:t>ceto-acil reductasa (KR)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7" name="Picture 8" descr=""/>
          <p:cNvPicPr/>
          <p:nvPr/>
        </p:nvPicPr>
        <p:blipFill>
          <a:blip r:embed="rId1"/>
          <a:stretch/>
        </p:blipFill>
        <p:spPr>
          <a:xfrm>
            <a:off x="2879640" y="173664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096240" cy="1143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Funciones de los lípi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425080" cy="44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8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36B9-BE65-4A20-8556-425B4DD7590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942920" y="361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5)Deshidratación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0" name="Text Box 6"/>
          <p:cNvSpPr/>
          <p:nvPr/>
        </p:nvSpPr>
        <p:spPr>
          <a:xfrm>
            <a:off x="503280" y="20239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7"/>
          <p:cNvSpPr/>
          <p:nvPr/>
        </p:nvSpPr>
        <p:spPr>
          <a:xfrm>
            <a:off x="216000" y="2492280"/>
            <a:ext cx="28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Se pierde una molécula de agua, reacción catalizada po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</a:rPr>
              <a:t>hidroxi acil deshidratasa (H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2" name="Picture 9" descr=""/>
          <p:cNvPicPr/>
          <p:nvPr/>
        </p:nvPicPr>
        <p:blipFill>
          <a:blip r:embed="rId1"/>
          <a:stretch/>
        </p:blipFill>
        <p:spPr>
          <a:xfrm>
            <a:off x="2808360" y="1704960"/>
            <a:ext cx="6156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9D8E-E8F3-4582-9A6C-DB8AF17BBCF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989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6)Segunda reducción</a:t>
            </a:r>
            <a:br>
              <a:rPr sz="3600"/>
            </a:br>
            <a:r>
              <a:rPr b="1" lang="es-ES" sz="2400" spc="-1" strike="noStrike">
                <a:solidFill>
                  <a:srgbClr val="00ff00"/>
                </a:solidFill>
                <a:latin typeface="Arial Narrow"/>
              </a:rPr>
              <a:t>(Saturación del enlace C-C)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576360" y="3033720"/>
            <a:ext cx="388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compuesto insaturado es hidrogenado por acción d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enoil reductasa (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8" descr=""/>
          <p:cNvPicPr/>
          <p:nvPr/>
        </p:nvPicPr>
        <p:blipFill>
          <a:blip r:embed="rId1"/>
          <a:stretch/>
        </p:blipFill>
        <p:spPr>
          <a:xfrm>
            <a:off x="5076720" y="762120"/>
            <a:ext cx="324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4660-DBEB-4E89-A307-57E903AC91D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95640" y="225000"/>
            <a:ext cx="57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Translo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9" name="Text Box 7"/>
          <p:cNvSpPr/>
          <p:nvPr/>
        </p:nvSpPr>
        <p:spPr>
          <a:xfrm>
            <a:off x="1440" y="189000"/>
            <a:ext cx="341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 Narrow"/>
              </a:rPr>
              <a:t>La cadena en elongación unida al grupo fosfopanteteína de la ACP es translocada al residuo de cisteína de la enzima condensante (K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l grupo fosfopanteteína queda libre para la unión a malonilo comenzando un nuevo cic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</a:rPr>
              <a:t>El ciclo se repite hasta llegar a AG de 16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</a:rPr>
              <a:t>Los H necesarios para las reducciones provienen de </a:t>
            </a:r>
            <a:r>
              <a:rPr b="1" lang="es-ES" sz="2000" spc="-1" strike="noStrike" u="sng">
                <a:solidFill>
                  <a:srgbClr val="99ffcc"/>
                </a:solidFill>
                <a:uFillTx/>
                <a:latin typeface="Arial Narrow"/>
              </a:rPr>
              <a:t>NADPH que se obtiene en la vía de las pentosas y  en menor cantidad por la enzima málica lanzadera de citr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</a:rPr>
              <a:t>(transporte de acetil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0" name="Picture 9" descr=""/>
          <p:cNvPicPr/>
          <p:nvPr/>
        </p:nvPicPr>
        <p:blipFill>
          <a:blip r:embed="rId1"/>
          <a:stretch/>
        </p:blipFill>
        <p:spPr>
          <a:xfrm>
            <a:off x="3348000" y="166536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01E0-FE3C-4215-A899-5E2DA32B43A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90080" y="36144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ff00"/>
                </a:solidFill>
                <a:uFillTx/>
                <a:latin typeface="Arial Narrow"/>
              </a:rPr>
              <a:t>RESUMEN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Pasos de la biosíntesis de Ac. Grasos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3" name="Picture 6" descr=""/>
          <p:cNvPicPr/>
          <p:nvPr/>
        </p:nvPicPr>
        <p:blipFill>
          <a:blip r:embed="rId1"/>
          <a:stretch/>
        </p:blipFill>
        <p:spPr>
          <a:xfrm>
            <a:off x="539640" y="1765440"/>
            <a:ext cx="8375760" cy="4611600"/>
          </a:xfrm>
          <a:prstGeom prst="rect">
            <a:avLst/>
          </a:prstGeom>
          <a:ln w="0">
            <a:noFill/>
          </a:ln>
        </p:spPr>
      </p:pic>
      <p:sp>
        <p:nvSpPr>
          <p:cNvPr id="994" name="1 CuadroTexto"/>
          <p:cNvSpPr/>
          <p:nvPr/>
        </p:nvSpPr>
        <p:spPr>
          <a:xfrm>
            <a:off x="539640" y="540864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7 ciclos de condensación y reducción producen el palmitato saturad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,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túa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Tioesterasa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y libera el AG de A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Elipse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 Narrow"/>
              </a:rPr>
              <a:t>Balance de la Biosíntesi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7" name="Cuadro de texto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8 Acetil-CoA  +  7 ATP  +  14 NADPH   +  14  H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Cuadro de texto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+  6 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Línea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Elipse 21"/>
          <p:cNvSpPr/>
          <p:nvPr/>
        </p:nvSpPr>
        <p:spPr>
          <a:xfrm>
            <a:off x="5638680" y="1219320"/>
            <a:ext cx="3110040" cy="1752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ínea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1 CuadroTexto"/>
          <p:cNvSpPr/>
          <p:nvPr/>
        </p:nvSpPr>
        <p:spPr>
          <a:xfrm>
            <a:off x="6063840" y="153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anzadera de 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Cuadro de texto 4"/>
          <p:cNvSpPr/>
          <p:nvPr/>
        </p:nvSpPr>
        <p:spPr>
          <a:xfrm>
            <a:off x="2556000" y="2060640"/>
            <a:ext cx="374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cripción gén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ángulo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</a:rPr>
              <a:t>REGULACION DE LA BIOSINTESIS DE ACIDOS GRA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Cuadro de texto 6"/>
          <p:cNvSpPr/>
          <p:nvPr/>
        </p:nvSpPr>
        <p:spPr>
          <a:xfrm>
            <a:off x="324000" y="3357720"/>
            <a:ext cx="2232000" cy="116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</a:rPr>
              <a:t>Acetil-Co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</a:rPr>
              <a:t>carboxi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Autoforma 7"/>
          <p:cNvSpPr/>
          <p:nvPr/>
        </p:nvSpPr>
        <p:spPr>
          <a:xfrm>
            <a:off x="4429080" y="1700280"/>
            <a:ext cx="358920" cy="1657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Autoforma 8"/>
          <p:cNvSpPr/>
          <p:nvPr/>
        </p:nvSpPr>
        <p:spPr>
          <a:xfrm>
            <a:off x="4284720" y="1484280"/>
            <a:ext cx="431640" cy="1727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Elipse 9"/>
          <p:cNvSpPr/>
          <p:nvPr/>
        </p:nvSpPr>
        <p:spPr>
          <a:xfrm>
            <a:off x="478800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Elipse 10"/>
          <p:cNvSpPr/>
          <p:nvPr/>
        </p:nvSpPr>
        <p:spPr>
          <a:xfrm>
            <a:off x="4859280" y="2637000"/>
            <a:ext cx="5047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Autoforma 11"/>
          <p:cNvSpPr/>
          <p:nvPr/>
        </p:nvSpPr>
        <p:spPr>
          <a:xfrm>
            <a:off x="4356000" y="3573360"/>
            <a:ext cx="432000" cy="1727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Elipse 12"/>
          <p:cNvSpPr/>
          <p:nvPr/>
        </p:nvSpPr>
        <p:spPr>
          <a:xfrm>
            <a:off x="4859280" y="378936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Elipse 13"/>
          <p:cNvSpPr/>
          <p:nvPr/>
        </p:nvSpPr>
        <p:spPr>
          <a:xfrm>
            <a:off x="4930920" y="47260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Cuadro de texto 14"/>
          <p:cNvSpPr/>
          <p:nvPr/>
        </p:nvSpPr>
        <p:spPr>
          <a:xfrm>
            <a:off x="5435640" y="1773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Cuadro de texto 15"/>
          <p:cNvSpPr/>
          <p:nvPr/>
        </p:nvSpPr>
        <p:spPr>
          <a:xfrm>
            <a:off x="558000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lmi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Cuadro de texto 16"/>
          <p:cNvSpPr/>
          <p:nvPr/>
        </p:nvSpPr>
        <p:spPr>
          <a:xfrm>
            <a:off x="5580000" y="386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Cuadro de texto 17"/>
          <p:cNvSpPr/>
          <p:nvPr/>
        </p:nvSpPr>
        <p:spPr>
          <a:xfrm>
            <a:off x="5580000" y="486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Cuadro de texto 18"/>
          <p:cNvSpPr/>
          <p:nvPr/>
        </p:nvSpPr>
        <p:spPr>
          <a:xfrm>
            <a:off x="6732720" y="587700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.G. poliinsatu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Elipse 19"/>
          <p:cNvSpPr/>
          <p:nvPr/>
        </p:nvSpPr>
        <p:spPr>
          <a:xfrm>
            <a:off x="6083280" y="5948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B157-4398-485E-9CBF-04946F828DD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2 Rectángulo"/>
          <p:cNvSpPr/>
          <p:nvPr/>
        </p:nvSpPr>
        <p:spPr>
          <a:xfrm>
            <a:off x="179280" y="549360"/>
            <a:ext cx="8713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regulación hormonal produce un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in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, de corto tiempo, a través de un mecanismo de fosforilación ó desfosforilación de la enzima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dieta actúa a nivel de la síntesis de la proteína enzimática por lo que el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es tardío ó 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Así por ejempl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1a1a"/>
                </a:solidFill>
                <a:latin typeface="Arial Rounded MT Bold"/>
              </a:rPr>
              <a:t>a)  una dieta rica en hidratos de carbono y/o proteínas, supera las necesidades energéticas de la célula, en consecuencia el acetil CoA que se produce en la degradación de dichos compuestos se utiliza para la síntesi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b) una dieta pobre en grasas no aporta la cantidad de lípidos suficientes para las distintas funciones celulares, en consecuencia se favorece la síntesis de ácidos gra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</a:rPr>
              <a:t>ESQUEMA DE LA REGULACION DE LA BIOSIN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Cuadro de texto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Cuadro de texto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Cuadro de texto 7"/>
          <p:cNvSpPr/>
          <p:nvPr/>
        </p:nvSpPr>
        <p:spPr>
          <a:xfrm>
            <a:off x="3295800" y="44323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Cuadro de texto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Línea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Línea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ínea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Cuadro de texto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Cuadro de texto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Línea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Línea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ínea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ínea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Elipse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Cuadro de texto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Línea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Línea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ínea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Elipse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ínea 24"/>
          <p:cNvSpPr/>
          <p:nvPr/>
        </p:nvSpPr>
        <p:spPr>
          <a:xfrm>
            <a:off x="2700360" y="3933720"/>
            <a:ext cx="1224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Línea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ínea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Elipse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Cuadro de texto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Línea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ángulo 30"/>
          <p:cNvSpPr/>
          <p:nvPr/>
        </p:nvSpPr>
        <p:spPr>
          <a:xfrm>
            <a:off x="0" y="4730760"/>
            <a:ext cx="21099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nitin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il transferasa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(Acil. CoA al interior de 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itocondria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Elipse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Línea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8C12-CBB2-45F4-82F5-DA84D03FAB0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37F2-4A4D-49A9-8FB1-F5B191F1B65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054" name="3 Conector recto"/>
          <p:cNvSpPr/>
          <p:nvPr/>
        </p:nvSpPr>
        <p:spPr>
          <a:xfrm>
            <a:off x="3276720" y="2205000"/>
            <a:ext cx="790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4 CuadroTexto"/>
          <p:cNvSpPr/>
          <p:nvPr/>
        </p:nvSpPr>
        <p:spPr>
          <a:xfrm>
            <a:off x="6165720" y="42307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3300"/>
                </a:solidFill>
                <a:latin typeface="Arial"/>
              </a:rPr>
              <a:t>des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93080" cy="1152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Narrow"/>
              </a:rPr>
              <a:t>METABOLISMO DE LIPIDO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iosíntesis de ácidos grasos satur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lejo multienzimático: Acido graso sint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gulación horm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querimientos energé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Metabolismo del colest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CE24-18ED-4E64-B97D-BB6B8C58630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058" name="2 CuadroTexto"/>
          <p:cNvSpPr/>
          <p:nvPr/>
        </p:nvSpPr>
        <p:spPr>
          <a:xfrm>
            <a:off x="781596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R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E685-2410-459A-8CAD-639EF50105A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0" name="Picture 3" descr=""/>
          <p:cNvPicPr/>
          <p:nvPr/>
        </p:nvPicPr>
        <p:blipFill>
          <a:blip r:embed="rId1"/>
          <a:stretch/>
        </p:blipFill>
        <p:spPr>
          <a:xfrm>
            <a:off x="1403280" y="84240"/>
            <a:ext cx="64087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DF4B-B6D2-4E9C-9D79-2B30C2FF13C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2 Rectángulo"/>
          <p:cNvSpPr/>
          <p:nvPr/>
        </p:nvSpPr>
        <p:spPr>
          <a:xfrm>
            <a:off x="108000" y="122400"/>
            <a:ext cx="87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vegetales tienen las enzimas necesarias para producir insaturaciones desde la posición 9 del ácido graso hacia el carbono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metilo termin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ejemplo, a partir del ácido oleico pueden sintetizar los ácidos: linoleico (18:2, 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12) y linolénico (18:3,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,12,15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amíferos no pueden sintetizarlos y por ello se consideran a los mismos,  ácidos grasos esenciales debiendo ser provistos por la di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ácido araquidónico (20:4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, 8, 11, 14) es parcialmente indispensable ya que el organismo puede sintetizarlo si dispone de ácido linole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animales la nueva doble unión se introduce entre la ya existente, en la porción de cadena proximal  al grupo carboxi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8651-A30E-4D7A-93A8-C97A710BA5D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2 CuadroTexto"/>
          <p:cNvSpPr/>
          <p:nvPr/>
        </p:nvSpPr>
        <p:spPr>
          <a:xfrm>
            <a:off x="179280" y="0"/>
            <a:ext cx="8964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IONES BIOLOGICAS DE  AG POLIINSATU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AG ESCEN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N LÍPIDOS ESTRUCTURALES EN LAS CÉLULA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PRECURSORES DE PROSTAGLANDINAS, TROMBOXANOS Y LEUCOTRI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ICIPAN EN LA CONSTRUCCIÓN DE LOS ÉSTERES DE COLESTEROL EN PLASMA SANGUÍN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GENERAN ISÓMEROS TRANS EN EL PROCESO DE HIDROGENACIÓN DE ACEITES NATURALE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L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3 Flecha arriba"/>
          <p:cNvSpPr/>
          <p:nvPr/>
        </p:nvSpPr>
        <p:spPr>
          <a:xfrm>
            <a:off x="7454880" y="5805360"/>
            <a:ext cx="285840" cy="574920"/>
          </a:xfrm>
          <a:prstGeom prst="upArrow">
            <a:avLst>
              <a:gd name="adj1" fmla="val 50000"/>
              <a:gd name="adj2" fmla="val 49818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0E30-8E0F-4A21-8EB4-2C69700C4F0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7460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la ingesta supera las necesidades energéticas, el exceso se almacena como reserva en forma de gra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 restos de acetil-CoA provenientes de la 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-oxidación y de la degradación de glucosa o de las cadenas carbonadas de algunos aac, pueden utilizarse para sintetizar nuevos 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síntesis de AG de hasta 16 C ocurre en el citoplasma y se conoce como SINTESIS DE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elongación de AG se lleva a cabo en las membranas del REL y la de los AG preexistentes se realiza en las mitocond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Características generales de la Biosíntesis de ácidos gras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7" name="Cuadro de texto 3"/>
          <p:cNvSpPr/>
          <p:nvPr/>
        </p:nvSpPr>
        <p:spPr>
          <a:xfrm>
            <a:off x="407880" y="2671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a biosíntesis de AG (lipogénesis)  tiene lugar en el CITOSOL, en plantas en los CLOROPL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 un proceso endergónico: Utiliza 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nsume equivalentes de reducción : 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7"/>
          <p:cNvSpPr/>
          <p:nvPr/>
        </p:nvSpPr>
        <p:spPr>
          <a:xfrm>
            <a:off x="407880" y="5530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 activa cuando el aporte energético es superior a las necesidades de la célu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Cuadro de texto 8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 muy activa en hígado, tejido adiposo, glándula m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G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sintetizan en citosol a partir de acetil-CoA, por adición sucesiva de estos fragmentos de 2 carbonos al extremo carboxilo de la cadena en creci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Acetil-CoA que se produce en mitocondria debe estar disponible en citos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 Narrow"/>
              </a:rPr>
              <a:t>Relación entre el Metabolismo de los H. de C. y la Biosíntesis de Ácidos Grasos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15" name="Imagen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816" name="Cuadro de texto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Cuadro de texto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Cuadro de texto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ntesis de 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ángulo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ángulo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ángulo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ángulo 13"/>
          <p:cNvSpPr/>
          <p:nvPr/>
        </p:nvSpPr>
        <p:spPr>
          <a:xfrm>
            <a:off x="1104840" y="4145040"/>
            <a:ext cx="1067040" cy="6094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Cuadro de texto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Cuadro de texto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Cuadro de texto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Cuadro de texto 17"/>
          <p:cNvSpPr/>
          <p:nvPr/>
        </p:nvSpPr>
        <p:spPr>
          <a:xfrm>
            <a:off x="3429000" y="4295880"/>
            <a:ext cx="157464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Cuadro de texto 18"/>
          <p:cNvSpPr/>
          <p:nvPr/>
        </p:nvSpPr>
        <p:spPr>
          <a:xfrm>
            <a:off x="6248520" y="428148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Cuadro de texto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Cuadro de texto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Cuadro de texto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Cuadro de texto 23"/>
          <p:cNvSpPr/>
          <p:nvPr/>
        </p:nvSpPr>
        <p:spPr>
          <a:xfrm>
            <a:off x="6173640" y="1236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cidos gr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ángulo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 Carnit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ángulo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Procedencia de Acetil CoA, Enzimas y Poder reducto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Autoforma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Cuadro de texto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má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Línea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Elipse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ltienzi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2" name="Grupo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843" name="Grupo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844" name="Grupo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845" name="Autoforma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Cuadro de texto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ACET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Cuadro de texto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MALON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Autoforma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9" name="Elipse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0" name="Autoforma 10"/>
            <p:cNvSpPr/>
            <p:nvPr/>
          </p:nvSpPr>
          <p:spPr>
            <a:xfrm rot="5278800">
              <a:off x="7619760" y="2512440"/>
              <a:ext cx="1066320" cy="304920"/>
            </a:xfrm>
            <a:custGeom>
              <a:avLst/>
              <a:gdLst>
                <a:gd name="textAreaLeft" fmla="*/ 166320 w 1066320"/>
                <a:gd name="textAreaRight" fmla="*/ 933120 w 106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Cuadro de texto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ínea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3" name="Grupo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854" name="Cuadro de texto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ínea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Cuadro de texto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Cuadro de texto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Cuadro de texto 23"/>
            <p:cNvSpPr/>
            <p:nvPr/>
          </p:nvSpPr>
          <p:spPr>
            <a:xfrm>
              <a:off x="5580000" y="3214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Cuadro de texto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ATP      ADP + 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Autoforma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Línea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Cuadro de texto 28"/>
          <p:cNvSpPr/>
          <p:nvPr/>
        </p:nvSpPr>
        <p:spPr>
          <a:xfrm>
            <a:off x="5508720" y="4292640"/>
            <a:ext cx="3406680" cy="429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Síntesis de malonil-Co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8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7 Rectángulo"/>
          <p:cNvSpPr/>
          <p:nvPr/>
        </p:nvSpPr>
        <p:spPr>
          <a:xfrm>
            <a:off x="6093000" y="3179880"/>
            <a:ext cx="792000" cy="28548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6 Rectángulo"/>
          <p:cNvSpPr/>
          <p:nvPr/>
        </p:nvSpPr>
        <p:spPr>
          <a:xfrm>
            <a:off x="6156360" y="3073320"/>
            <a:ext cx="792000" cy="2844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Imagen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883120"/>
          </a:xfrm>
          <a:prstGeom prst="rect">
            <a:avLst/>
          </a:prstGeom>
          <a:ln w="9360">
            <a:solidFill>
              <a:srgbClr val="ff1a1a"/>
            </a:solidFill>
            <a:miter/>
          </a:ln>
        </p:spPr>
      </p:pic>
      <p:sp>
        <p:nvSpPr>
          <p:cNvPr id="866" name="Cuadro de texto 6"/>
          <p:cNvSpPr/>
          <p:nvPr/>
        </p:nvSpPr>
        <p:spPr>
          <a:xfrm>
            <a:off x="3348000" y="2492280"/>
            <a:ext cx="900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Cuadro de texto 7"/>
          <p:cNvSpPr/>
          <p:nvPr/>
        </p:nvSpPr>
        <p:spPr>
          <a:xfrm>
            <a:off x="5508720" y="2492280"/>
            <a:ext cx="86364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1 Estrella de 5 puntas"/>
          <p:cNvSpPr/>
          <p:nvPr/>
        </p:nvSpPr>
        <p:spPr>
          <a:xfrm>
            <a:off x="5796000" y="4491000"/>
            <a:ext cx="863640" cy="647640"/>
          </a:xfrm>
          <a:custGeom>
            <a:avLst/>
            <a:gdLst/>
            <a:ahLst/>
            <a:rect l="l" t="t" r="r" b="b"/>
            <a:pathLst>
              <a:path w="684076" h="648072">
                <a:moveTo>
                  <a:pt x="1" y="247541"/>
                </a:moveTo>
                <a:lnTo>
                  <a:pt x="252730" y="235799"/>
                </a:lnTo>
                <a:lnTo>
                  <a:pt x="342038" y="0"/>
                </a:lnTo>
                <a:lnTo>
                  <a:pt x="431346" y="235799"/>
                </a:lnTo>
                <a:lnTo>
                  <a:pt x="684075" y="247541"/>
                </a:lnTo>
                <a:lnTo>
                  <a:pt x="486542" y="405015"/>
                </a:lnTo>
                <a:lnTo>
                  <a:pt x="553429" y="648070"/>
                </a:lnTo>
                <a:lnTo>
                  <a:pt x="342038" y="509596"/>
                </a:lnTo>
                <a:lnTo>
                  <a:pt x="130647" y="648070"/>
                </a:lnTo>
                <a:lnTo>
                  <a:pt x="197534" y="405015"/>
                </a:lnTo>
                <a:lnTo>
                  <a:pt x="1" y="247541"/>
                </a:lnTo>
                <a:close/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1 Rectángulo"/>
          <p:cNvSpPr/>
          <p:nvPr/>
        </p:nvSpPr>
        <p:spPr>
          <a:xfrm>
            <a:off x="324000" y="115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ALIDA DE ACETILOS DE LA MITOCONDRIA AL CITO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LANZADERA DE 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0" name="3 Conector recto de flecha"/>
          <p:cNvCxnSpPr/>
          <p:nvPr/>
        </p:nvCxnSpPr>
        <p:spPr>
          <a:xfrm flipH="1" flipV="1">
            <a:off x="6318000" y="5589000"/>
            <a:ext cx="342000" cy="432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871" name="5 Conector recto de flecha"/>
          <p:cNvCxnSpPr/>
          <p:nvPr/>
        </p:nvCxnSpPr>
        <p:spPr>
          <a:xfrm flipH="1" flipV="1">
            <a:off x="7092720" y="5229360"/>
            <a:ext cx="72000" cy="576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872" name="1 CuadroTexto"/>
          <p:cNvSpPr/>
          <p:nvPr/>
        </p:nvSpPr>
        <p:spPr>
          <a:xfrm>
            <a:off x="2198520" y="469908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Biotin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2:06:53Z</dcterms:created>
  <dc:creator>Fanny</dc:creator>
  <dc:description/>
  <dc:language>en-US</dc:language>
  <cp:lastModifiedBy>Preferred Customer</cp:lastModifiedBy>
  <dcterms:modified xsi:type="dcterms:W3CDTF">2012-05-07T20:59:44Z</dcterms:modified>
  <cp:revision>152</cp:revision>
  <dc:subject/>
  <dc:title>Presentación de PowerPoint</dc:title>
</cp:coreProperties>
</file>